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246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5E7-D016-413B-913E-EDF63721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589-D4A3-46A0-B208-6D6C1B1B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973-88B8-47A5-9391-A7E9B727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395-0895-4D36-A56D-6FBDDF68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B788-6A7C-4FC2-BE5A-D07400DB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D469-084F-444D-9E03-1A6C84EA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819-65A3-469C-B222-3D429452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F6C2-D8ED-4BF8-B1C2-858284C0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146F-C8CA-4490-9DE9-E3BB039C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93280" y="760680"/>
            <a:ext cx="80931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5C65-CC09-4310-A8C2-D71829F6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4D64-2BD7-48B1-B5A5-8FE3B81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DCA-10AC-4C90-918C-E645E0E4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90B1-FB0B-4A95-9152-67730D2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86C1-7E97-412D-88EF-D957A11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C953-DA24-45C2-B0E6-03349B89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52F3-D9F7-4820-806C-D516E1E5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22D2-FA2D-49D3-8244-EFC25E99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779-A670-4E93-A9E0-8EF47380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93280" y="760680"/>
            <a:ext cx="80931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BE7-26EE-4CD2-9261-70770CFC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93280" y="760680"/>
            <a:ext cx="80931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7AB-7D03-4C76-B878-2851B64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3280" y="760680"/>
            <a:ext cx="80931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71B-DB20-4C74-9B71-3463374E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AD5-1661-4B29-A107-61CF8CD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47A-83A3-4222-8DA8-D6E9FE1D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F8F-EF0E-4D1D-9FE8-AD5A56A4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812A-2DF8-4E24-8F42-51D6ED1D44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81320" y="6381720"/>
            <a:ext cx="21337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058B-6545-49B9-8719-2F70AC84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Straight Connector 3"/>
          <p:cNvSpPr/>
          <p:nvPr/>
        </p:nvSpPr>
        <p:spPr>
          <a:xfrm>
            <a:off x="700200" y="1382760"/>
            <a:ext cx="7999200" cy="1440"/>
          </a:xfrm>
          <a:prstGeom prst="line">
            <a:avLst/>
          </a:prstGeom>
          <a:ln w="19080">
            <a:solidFill>
              <a:srgbClr val="247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7" descr="National_Grid_logo_blue"/>
          <p:cNvPicPr/>
          <p:nvPr/>
        </p:nvPicPr>
        <p:blipFill>
          <a:blip r:embed="rId2"/>
          <a:stretch/>
        </p:blipFill>
        <p:spPr>
          <a:xfrm>
            <a:off x="6810480" y="343080"/>
            <a:ext cx="1830240" cy="3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12B0-620F-432F-91AA-09A6E69B1F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3A3A-A529-461D-979A-97F314482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traight Connector 3"/>
          <p:cNvSpPr/>
          <p:nvPr/>
        </p:nvSpPr>
        <p:spPr>
          <a:xfrm>
            <a:off x="700200" y="1382760"/>
            <a:ext cx="7999200" cy="1440"/>
          </a:xfrm>
          <a:prstGeom prst="line">
            <a:avLst/>
          </a:prstGeom>
          <a:ln w="19080">
            <a:solidFill>
              <a:srgbClr val="247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National_Grid_logo_blue"/>
          <p:cNvPicPr/>
          <p:nvPr/>
        </p:nvPicPr>
        <p:blipFill>
          <a:blip r:embed="rId2"/>
          <a:stretch/>
        </p:blipFill>
        <p:spPr>
          <a:xfrm>
            <a:off x="6810480" y="343080"/>
            <a:ext cx="1830240" cy="3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33"/>
          <p:cNvSpPr/>
          <p:nvPr/>
        </p:nvSpPr>
        <p:spPr>
          <a:xfrm>
            <a:off x="0" y="0"/>
            <a:ext cx="9159840" cy="2400480"/>
          </a:xfrm>
          <a:custGeom>
            <a:avLst/>
            <a:gdLst/>
            <a:ahLst/>
            <a:rect l="l" t="t" r="r" b="b"/>
            <a:pathLst>
              <a:path w="5760" h="1512">
                <a:moveTo>
                  <a:pt x="0" y="0"/>
                </a:moveTo>
                <a:lnTo>
                  <a:pt x="0" y="1368"/>
                </a:lnTo>
                <a:lnTo>
                  <a:pt x="1008" y="1368"/>
                </a:lnTo>
                <a:lnTo>
                  <a:pt x="1152" y="1512"/>
                </a:lnTo>
                <a:lnTo>
                  <a:pt x="1296" y="1368"/>
                </a:lnTo>
                <a:lnTo>
                  <a:pt x="5760" y="1368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 flipH="1" flipV="1">
            <a:off x="685800" y="297144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8" name="Line 39"/>
          <p:cNvSpPr/>
          <p:nvPr/>
        </p:nvSpPr>
        <p:spPr>
          <a:xfrm>
            <a:off x="2400480" y="434340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9" name="Line 40"/>
          <p:cNvSpPr/>
          <p:nvPr/>
        </p:nvSpPr>
        <p:spPr>
          <a:xfrm flipH="1">
            <a:off x="685800" y="434340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0" name="Line 41"/>
          <p:cNvSpPr/>
          <p:nvPr/>
        </p:nvSpPr>
        <p:spPr>
          <a:xfrm flipV="1">
            <a:off x="2400480" y="297144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028880" y="3216240"/>
            <a:ext cx="1439640" cy="124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ace your chosen image here. The four corners must just cover the arrow tips. For covers, the three pictures should be the same size and in a straight line.   </a:t>
            </a:r>
            <a:endParaRPr b="1" lang="en-US" sz="10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92" name="Picture 44" descr="National_Grid_logo_blue"/>
          <p:cNvPicPr/>
          <p:nvPr/>
        </p:nvPicPr>
        <p:blipFill>
          <a:blip r:embed="rId2"/>
          <a:stretch/>
        </p:blipFill>
        <p:spPr>
          <a:xfrm>
            <a:off x="6810480" y="343080"/>
            <a:ext cx="1830240" cy="376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2"/>
          <p:cNvSpPr/>
          <p:nvPr/>
        </p:nvSpPr>
        <p:spPr>
          <a:xfrm>
            <a:off x="0" y="0"/>
            <a:ext cx="9159840" cy="2400480"/>
          </a:xfrm>
          <a:custGeom>
            <a:avLst/>
            <a:gdLst/>
            <a:ahLst/>
            <a:rect l="l" t="t" r="r" b="b"/>
            <a:pathLst>
              <a:path w="5760" h="1512">
                <a:moveTo>
                  <a:pt x="0" y="0"/>
                </a:moveTo>
                <a:lnTo>
                  <a:pt x="0" y="1368"/>
                </a:lnTo>
                <a:lnTo>
                  <a:pt x="1008" y="1368"/>
                </a:lnTo>
                <a:lnTo>
                  <a:pt x="1152" y="1512"/>
                </a:lnTo>
                <a:lnTo>
                  <a:pt x="1296" y="1368"/>
                </a:lnTo>
                <a:lnTo>
                  <a:pt x="5760" y="1368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132" name="Picture 7" descr="National_Grid_logo_blue"/>
          <p:cNvPicPr/>
          <p:nvPr/>
        </p:nvPicPr>
        <p:blipFill>
          <a:blip r:embed="rId2"/>
          <a:stretch/>
        </p:blipFill>
        <p:spPr>
          <a:xfrm>
            <a:off x="6810480" y="343080"/>
            <a:ext cx="1830240" cy="376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328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3640" y="127908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Modification 501 slides for Workgroup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71320" y="2882880"/>
            <a:ext cx="80010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ley Ram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hew H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6781680" y="6381720"/>
            <a:ext cx="2133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4656-8C2C-45E6-B635-BA11773A1274}" type="slidenum">
              <a:rPr b="1" lang="en-US" sz="1200" spc="-1" strike="noStrike">
                <a:solidFill>
                  <a:srgbClr val="0079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781680" y="6381720"/>
            <a:ext cx="2133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4E2F-9799-4A9B-B9C1-594BCDE5907D}" type="slidenum">
              <a:rPr b="1" lang="en-US" sz="1200" spc="-1" strike="noStrike">
                <a:solidFill>
                  <a:srgbClr val="0079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887040"/>
            <a:ext cx="8093160" cy="52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Indicative Timeline 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00280" y="2171880"/>
          <a:ext cx="6743520" cy="4028760"/>
        </p:xfrm>
        <a:graphic>
          <a:graphicData uri="http://schemas.openxmlformats.org/drawingml/2006/table">
            <a:tbl>
              <a:tblPr/>
              <a:tblGrid>
                <a:gridCol w="2247840"/>
                <a:gridCol w="2247840"/>
                <a:gridCol w="224784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quired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date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d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Note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10 business days of Mar 15 QSEC allocation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1 June]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vitation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pers Response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20 business days of invitation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9 June]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G fax results (aggregate and individual)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5 business days (of Shippers final date to respond)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6 July]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G update systems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10 business days (of results being faxed)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0 July]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</a:tr>
            </a:tbl>
          </a:graphicData>
        </a:graphic>
      </p:graphicFrame>
      <p:sp>
        <p:nvSpPr>
          <p:cNvPr id="177" name="Rectangle 2"/>
          <p:cNvSpPr/>
          <p:nvPr/>
        </p:nvSpPr>
        <p:spPr>
          <a:xfrm>
            <a:off x="80028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acton Capacity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Initial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eallocation Invitation </a:t>
            </a:r>
            <a:endParaRPr b="1" lang="en-US" sz="24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93640" y="7606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Indicative Timeline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2286000"/>
          <a:ext cx="6972480" cy="412416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  <a:gridCol w="2324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quired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date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d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Note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3 August]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Reallocation Invitation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pers Response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20 business days of invitation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1 September]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G fax results (aggregate and individual)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5 business days (of Shippers final date to respond)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8 September]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G update systems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10 business days (of results being faxed)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2 September]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1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5"/>
          <p:cNvSpPr/>
          <p:nvPr/>
        </p:nvSpPr>
        <p:spPr>
          <a:xfrm>
            <a:off x="80028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acton Capacity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Final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Reallocation Invitation </a:t>
            </a:r>
            <a:endParaRPr b="1" lang="en-US" sz="24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0:03:33Z</dcterms:created>
  <dc:creator>Ramsey, Lesley</dc:creator>
  <dc:description/>
  <dc:language>en-US</dc:language>
  <cp:lastModifiedBy>National Grid</cp:lastModifiedBy>
  <cp:lastPrinted>2014-07-02T06:12:03Z</cp:lastPrinted>
  <dcterms:modified xsi:type="dcterms:W3CDTF">2014-07-02T12:21:57Z</dcterms:modified>
  <cp:revision>100</cp:revision>
  <dc:subject/>
  <dc:title>National Grid Power 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G_Department">
    <vt:lpwstr>Employee Communication and Brand</vt:lpwstr>
  </property>
  <property fmtid="{D5CDD505-2E9C-101B-9397-08002B2CF9AE}" pid="4" name="NG_Description">
    <vt:lpwstr/>
  </property>
  <property fmtid="{D5CDD505-2E9C-101B-9397-08002B2CF9AE}" pid="5" name="NG_DocType">
    <vt:lpwstr>Templates</vt:lpwstr>
  </property>
  <property fmtid="{D5CDD505-2E9C-101B-9397-08002B2CF9AE}" pid="6" name="NG_IsPopuler">
    <vt:lpwstr>1</vt:lpwstr>
  </property>
  <property fmtid="{D5CDD505-2E9C-101B-9397-08002B2CF9AE}" pid="7" name="NG_LOB">
    <vt:lpwstr>Corporate Affairs</vt:lpwstr>
  </property>
</Properties>
</file>